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DC2-5F9F-4D27-879E-0F4F434F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C36-4A63-477E-A4A3-24336A19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D5D-E6AE-4573-A5A1-D7C85020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783-9A68-4F82-8555-E7D99605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7EB-36F5-49F9-81C4-32CA04A0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6C4-BBBD-4B84-9BE9-839004E9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C23-7EE7-46AF-AAD5-C8CBCBE8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B7D-4A7A-4617-BE73-D031CD2A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508-A257-4211-BBEA-7013CBE0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551-A75B-4C9F-849F-60606CD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A7B-EA97-408F-BC79-EFC3AEA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261-447C-4613-8D97-0796F976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6645-2AD8-4667-A3DF-9E51D7102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~4BX@063$DFJ_I9~QV%7R$B"/>
          <p:cNvPicPr/>
          <p:nvPr/>
        </p:nvPicPr>
        <p:blipFill>
          <a:blip r:embed="rId1"/>
          <a:stretch/>
        </p:blipFill>
        <p:spPr>
          <a:xfrm>
            <a:off x="4103640" y="1230480"/>
            <a:ext cx="2400480" cy="42512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1917720" y="1230480"/>
            <a:ext cx="2025720" cy="4251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組み立て説明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elix Wind Turb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26960" y="5778360"/>
            <a:ext cx="1656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zontal a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4/5/7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814920" y="5648400"/>
            <a:ext cx="1512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des-2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572160" y="60721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xis rod-1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3"/>
          <a:stretch/>
        </p:blipFill>
        <p:spPr>
          <a:xfrm>
            <a:off x="6572160" y="1000080"/>
            <a:ext cx="1419480" cy="4897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"/>
          <p:cNvPicPr/>
          <p:nvPr/>
        </p:nvPicPr>
        <p:blipFill>
          <a:blip r:embed="rId4"/>
          <a:stretch/>
        </p:blipFill>
        <p:spPr>
          <a:xfrm>
            <a:off x="426960" y="1230480"/>
            <a:ext cx="1354320" cy="4397040"/>
          </a:xfrm>
          <a:prstGeom prst="rect">
            <a:avLst/>
          </a:prstGeom>
          <a:ln w="0">
            <a:noFill/>
          </a:ln>
        </p:spPr>
      </p:pic>
      <p:cxnSp>
        <p:nvCxnSpPr>
          <p:cNvPr id="49" name="直接箭头连接符 21"/>
          <p:cNvCxnSpPr/>
          <p:nvPr/>
        </p:nvCxnSpPr>
        <p:spPr>
          <a:xfrm flipH="1" flipV="1">
            <a:off x="2339280" y="3501720"/>
            <a:ext cx="73800" cy="575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直接箭头连接符 23"/>
          <p:cNvCxnSpPr>
            <a:stCxn id="51" idx="1"/>
          </p:cNvCxnSpPr>
          <p:nvPr/>
        </p:nvCxnSpPr>
        <p:spPr>
          <a:xfrm flipH="1" flipV="1">
            <a:off x="3819240" y="3036600"/>
            <a:ext cx="186480" cy="319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1" name="矩形 24"/>
          <p:cNvSpPr/>
          <p:nvPr/>
        </p:nvSpPr>
        <p:spPr>
          <a:xfrm>
            <a:off x="4005360" y="3219480"/>
            <a:ext cx="1049400" cy="272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uter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5"/>
          <p:cNvSpPr/>
          <p:nvPr/>
        </p:nvSpPr>
        <p:spPr>
          <a:xfrm>
            <a:off x="2381400" y="4111560"/>
            <a:ext cx="998280" cy="693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ner side, near the axis r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6"/>
          <p:cNvSpPr/>
          <p:nvPr/>
        </p:nvSpPr>
        <p:spPr>
          <a:xfrm>
            <a:off x="2082960" y="1395360"/>
            <a:ext cx="787320" cy="27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7"/>
          <p:cNvSpPr/>
          <p:nvPr/>
        </p:nvSpPr>
        <p:spPr>
          <a:xfrm>
            <a:off x="3110040" y="5178600"/>
            <a:ext cx="992160" cy="269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own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"/>
          <p:cNvPicPr/>
          <p:nvPr/>
        </p:nvPicPr>
        <p:blipFill>
          <a:blip r:embed="rId5"/>
          <a:stretch/>
        </p:blipFill>
        <p:spPr>
          <a:xfrm>
            <a:off x="7575480" y="1000080"/>
            <a:ext cx="1401840" cy="2000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7575480" y="3197160"/>
            <a:ext cx="1403280" cy="4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 hole for the first 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接箭头连接符 4"/>
          <p:cNvCxnSpPr>
            <a:stCxn id="51" idx="1"/>
          </p:cNvCxnSpPr>
          <p:nvPr/>
        </p:nvCxnSpPr>
        <p:spPr>
          <a:xfrm flipV="1">
            <a:off x="4005360" y="2133360"/>
            <a:ext cx="4022280" cy="1222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3240000" cy="22640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1117440" y="3284640"/>
            <a:ext cx="32385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nuts for blades-M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452840" y="3284640"/>
            <a:ext cx="39816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washer &amp; flat washer for bl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117440" y="6200640"/>
            <a:ext cx="32385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ws for the arms-M8*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4897440" y="4037040"/>
            <a:ext cx="109044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6005520" y="4243320"/>
            <a:ext cx="2428920" cy="188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"/>
          <p:cNvPicPr/>
          <p:nvPr/>
        </p:nvPicPr>
        <p:blipFill>
          <a:blip r:embed="rId3"/>
          <a:stretch/>
        </p:blipFill>
        <p:spPr>
          <a:xfrm>
            <a:off x="1116000" y="1393920"/>
            <a:ext cx="2147760" cy="179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4"/>
          <a:stretch/>
        </p:blipFill>
        <p:spPr>
          <a:xfrm>
            <a:off x="5006880" y="1347840"/>
            <a:ext cx="3398760" cy="1861920"/>
          </a:xfrm>
          <a:prstGeom prst="rect">
            <a:avLst/>
          </a:prstGeom>
          <a:ln w="0">
            <a:noFill/>
          </a:ln>
        </p:spPr>
      </p:pic>
      <p:sp>
        <p:nvSpPr>
          <p:cNvPr id="66" name="Line 19"/>
          <p:cNvSpPr/>
          <p:nvPr/>
        </p:nvSpPr>
        <p:spPr>
          <a:xfrm flipH="1" flipV="1">
            <a:off x="3973680" y="4870440"/>
            <a:ext cx="2108160" cy="34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INSTRU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elix Wind Turb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1"/>
          <p:cNvSpPr/>
          <p:nvPr/>
        </p:nvSpPr>
        <p:spPr>
          <a:xfrm>
            <a:off x="5929200" y="4270320"/>
            <a:ext cx="252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ームねじ用の嫌気性固定接着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液体材料は航空輸送でき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地元のホームセンターで購入してください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857760" y="4792680"/>
            <a:ext cx="40575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851280" y="2654280"/>
            <a:ext cx="4176720" cy="112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3857760" y="3917880"/>
            <a:ext cx="40575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399960" y="1095480"/>
            <a:ext cx="2928960" cy="4297320"/>
          </a:xfrm>
          <a:prstGeom prst="rect">
            <a:avLst/>
          </a:prstGeom>
          <a:ln w="0">
            <a:noFill/>
          </a:ln>
        </p:spPr>
      </p:pic>
      <p:sp>
        <p:nvSpPr>
          <p:cNvPr id="73" name="Line 19"/>
          <p:cNvSpPr/>
          <p:nvPr/>
        </p:nvSpPr>
        <p:spPr>
          <a:xfrm flipH="1">
            <a:off x="1784160" y="4149720"/>
            <a:ext cx="2066760" cy="258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 flipH="1" flipV="1">
            <a:off x="1522440" y="4681440"/>
            <a:ext cx="24019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2"/>
          <a:stretch/>
        </p:blipFill>
        <p:spPr>
          <a:xfrm>
            <a:off x="3857760" y="1071720"/>
            <a:ext cx="1868400" cy="1519200"/>
          </a:xfrm>
          <a:prstGeom prst="rect">
            <a:avLst/>
          </a:prstGeom>
          <a:ln w="0">
            <a:noFill/>
          </a:ln>
        </p:spPr>
      </p:pic>
      <p:sp>
        <p:nvSpPr>
          <p:cNvPr id="76" name="Line 13"/>
          <p:cNvSpPr/>
          <p:nvPr/>
        </p:nvSpPr>
        <p:spPr>
          <a:xfrm flipH="1" flipV="1">
            <a:off x="4630320" y="1746000"/>
            <a:ext cx="1298520" cy="1182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"/>
          <p:cNvPicPr/>
          <p:nvPr/>
        </p:nvPicPr>
        <p:blipFill>
          <a:blip r:embed="rId3"/>
          <a:stretch/>
        </p:blipFill>
        <p:spPr>
          <a:xfrm>
            <a:off x="5929200" y="1071720"/>
            <a:ext cx="1986120" cy="1519200"/>
          </a:xfrm>
          <a:prstGeom prst="rect">
            <a:avLst/>
          </a:prstGeom>
          <a:ln w="0">
            <a:noFill/>
          </a:ln>
        </p:spPr>
      </p:pic>
      <p:sp>
        <p:nvSpPr>
          <p:cNvPr id="78" name="Line 13"/>
          <p:cNvSpPr/>
          <p:nvPr/>
        </p:nvSpPr>
        <p:spPr>
          <a:xfrm flipV="1">
            <a:off x="5929200" y="2142720"/>
            <a:ext cx="714600" cy="7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INSTRU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elix Wind Turb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正方形/長方形 1"/>
          <p:cNvSpPr/>
          <p:nvPr/>
        </p:nvSpPr>
        <p:spPr>
          <a:xfrm>
            <a:off x="3838680" y="27018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のネジを締めて、最初の（上記の）アームを固定します。ネジは、軸ロッドの位置穴に適合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方形/長方形 2"/>
          <p:cNvSpPr/>
          <p:nvPr/>
        </p:nvSpPr>
        <p:spPr>
          <a:xfrm>
            <a:off x="4628520" y="40449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ームの方向に注意してくだ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正方形/長方形 3"/>
          <p:cNvSpPr/>
          <p:nvPr/>
        </p:nvSpPr>
        <p:spPr>
          <a:xfrm>
            <a:off x="4655520" y="4886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後のアームは固定しないでくだ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4506840" y="3929040"/>
            <a:ext cx="4021200" cy="242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ブレードの内側を上下にアームに固定しますが、最後のソケットは固定しないでください。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ームがブレードの外側の穴に出会うまで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本のアームを（上か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ずつ）回しながらブレードを曲げます。 その後、ネジとワッシャーで調整します。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のすべてのブレードソケットを固定した後、ブレードを最後のアームを固定します。 最初に内側、次に外側を固定します。 すべてのアームを上下から軸ロッドに固定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3338640" cy="5357880"/>
          </a:xfrm>
          <a:prstGeom prst="rect">
            <a:avLst/>
          </a:prstGeom>
          <a:ln w="0">
            <a:noFill/>
          </a:ln>
        </p:spPr>
      </p:pic>
      <p:sp>
        <p:nvSpPr>
          <p:cNvPr id="85" name="Line 27"/>
          <p:cNvSpPr/>
          <p:nvPr/>
        </p:nvSpPr>
        <p:spPr>
          <a:xfrm flipH="1" flipV="1">
            <a:off x="3143160" y="2286000"/>
            <a:ext cx="2014560" cy="164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"/>
          <p:cNvPicPr/>
          <p:nvPr/>
        </p:nvPicPr>
        <p:blipFill>
          <a:blip r:embed="rId2"/>
          <a:stretch/>
        </p:blipFill>
        <p:spPr>
          <a:xfrm>
            <a:off x="5072040" y="1000080"/>
            <a:ext cx="2428920" cy="2828880"/>
          </a:xfrm>
          <a:prstGeom prst="rect">
            <a:avLst/>
          </a:prstGeom>
          <a:ln w="0">
            <a:noFill/>
          </a:ln>
        </p:spPr>
      </p:pic>
      <p:sp>
        <p:nvSpPr>
          <p:cNvPr id="87" name="Line 27"/>
          <p:cNvSpPr/>
          <p:nvPr/>
        </p:nvSpPr>
        <p:spPr>
          <a:xfrm flipV="1">
            <a:off x="5159520" y="2286000"/>
            <a:ext cx="2198520" cy="164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INSTRU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elix Wind Turb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36480" y="4653000"/>
            <a:ext cx="7921800" cy="2205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すべてのブレードを取り付けた後、発電機を軸棒に固定します。 回転させて検査し、すべてが正常であることを確認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ームを軸ロッドに固定しているネジ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つずつ取り外し、ネジ固定接着剤で接着しをつけてから、再度取り付け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発電機のフランジをポールに固定し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の出力線をコントローラーに接続すると、取り付けが完了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2751120" cy="3600360"/>
          </a:xfrm>
          <a:prstGeom prst="rect">
            <a:avLst/>
          </a:prstGeom>
          <a:ln w="0">
            <a:noFill/>
          </a:ln>
        </p:spPr>
      </p:pic>
      <p:sp>
        <p:nvSpPr>
          <p:cNvPr id="91" name="Line 15"/>
          <p:cNvSpPr/>
          <p:nvPr/>
        </p:nvSpPr>
        <p:spPr>
          <a:xfrm flipV="1">
            <a:off x="5796000" y="2571840"/>
            <a:ext cx="919080" cy="1936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2"/>
          <a:stretch/>
        </p:blipFill>
        <p:spPr>
          <a:xfrm>
            <a:off x="2743200" y="876240"/>
            <a:ext cx="2549520" cy="3560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674640" y="857160"/>
            <a:ext cx="1995480" cy="357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 INSTRU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elix Wind Turb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12:07:31Z</dcterms:created>
  <dc:creator>User</dc:creator>
  <dc:description/>
  <dc:language>en-US</dc:language>
  <cp:lastModifiedBy>文男 森</cp:lastModifiedBy>
  <dcterms:modified xsi:type="dcterms:W3CDTF">2019-08-31T08:30:03Z</dcterms:modified>
  <cp:revision>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69</vt:lpwstr>
  </property>
</Properties>
</file>